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63E0-BAA9-4A5C-8C7E-6F480DF43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3802-E999-4D4B-A284-2BB4369FF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A921-B05C-41DA-A5DC-47D182182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A79D-A355-40BE-9A42-EB326C279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5221-A4B0-44C6-955E-CDD60678E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A363-9F44-4A7B-97D1-38D04BFCB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B1EA-EB55-4881-B96C-F6F9B7EE8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4340-6819-45BF-823F-6F3472A55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A344-A78F-4C86-8BD4-2EAE3C5C0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9E5E-CAC5-4624-AEFC-608B09CBB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AF92-6CB1-4C31-897B-E01565D93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7865-ED9A-4B26-BDD5-C3CAA0D7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9BB5C-6B6B-498C-BCB3-2234CD217D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454040" y="5084640"/>
            <a:ext cx="6648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Times New Roman"/>
              </a:rPr>
              <a:t>Нестандартные задачи как средств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Times New Roman"/>
              </a:rPr>
              <a:t>развит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Times New Roman"/>
              </a:rPr>
              <a:t>творческих способностей обучающих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"/>
          <p:cNvPicPr/>
          <p:nvPr/>
        </p:nvPicPr>
        <p:blipFill>
          <a:blip r:embed="rId1"/>
          <a:stretch/>
        </p:blipFill>
        <p:spPr>
          <a:xfrm>
            <a:off x="826920" y="260280"/>
            <a:ext cx="73440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1"/>
          <a:srcRect l="3387" t="0" r="0" b="0"/>
          <a:stretch/>
        </p:blipFill>
        <p:spPr>
          <a:xfrm>
            <a:off x="0" y="0"/>
            <a:ext cx="8218440" cy="419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3" name=""/>
          <p:cNvGraphicFramePr/>
          <p:nvPr/>
        </p:nvGraphicFramePr>
        <p:xfrm>
          <a:off x="3851280" y="3141720"/>
          <a:ext cx="4032360" cy="2376360"/>
        </p:xfrm>
        <a:graphic>
          <a:graphicData uri="http://schemas.openxmlformats.org/drawingml/2006/table">
            <a:tbl>
              <a:tblPr/>
              <a:tblGrid>
                <a:gridCol w="4032360"/>
              </a:tblGrid>
              <a:tr h="2376360">
                <a:tc>
                  <a:txBody>
                    <a:bodyPr lIns="68760" rIns="68760" tIns="0" bIns="0" anchor="t">
                      <a:noAutofit/>
                    </a:bodyPr>
                    <a:p>
                      <a:pPr marL="12384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= (7+4)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3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=11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3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=121+9=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384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=sqrt(13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384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= sqrt(130)/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384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qrt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130) &gt;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384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вет: не усп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2843280" y="692280"/>
          <a:ext cx="6095880" cy="56016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560880">
                <a:tc>
                  <a:txBody>
                    <a:bodyPr lIns="114480" rIns="114480" tIns="0" bIns="0" anchor="t">
                      <a:noAutofit/>
                    </a:bodyPr>
                    <a:p>
                      <a:pPr marL="8244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 случай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 случай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rcRect l="-2493" t="0" r="0" b="-4509"/>
          <a:stretch/>
        </p:blipFill>
        <p:spPr>
          <a:xfrm>
            <a:off x="250920" y="1949400"/>
            <a:ext cx="84358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8597880" cy="485136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611280" y="765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числи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Схема решения нестандартных задач</a:t>
            </a:r>
            <a:r>
              <a:rPr b="1" i="1" lang="ru-RU" sz="44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57120" y="1000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ить задачу и сформулировать ее (проблема как дана и проблема как понятна)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Найти противоречие и то, что мешает решить задачу (в чем проблема ситуаци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Выделить ресурсы, которыми облада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Применить уже имеющиеся приемы решений (в пространстве, временной экран, решение из других областей и так далее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Проанализировать решение и понять, можно ли его улучшить</a:t>
            </a:r>
            <a:br>
              <a:rPr sz="2400"/>
            </a:b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ода в трубе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6836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ть металлическая труба, проложенная под землей, по которой течет вода. Для устранения неполадок в работе системы, часть трубы раскопали столкнулись с необходимостью определить, в какую сторону движется в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пытки выяснить это путём простукивания,на слух,завершились неудачей. Вопрос: как понять в какую сторону течёт вода в трубе? Нарушать перметичность трубы(сверлить,резать)нельз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Arial"/>
              </a:rPr>
              <a:t>Предлагаемое решение к задаче «Вода в трубе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0" y="134136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нашем случае есть труба  и вода, которая по ней движется. Воздействовать на трубу нельзя, значит надо воздействовать на воду. Отсюда самое простое решение – нагреть трубу в одном месте, и по тому в какую сторону будет течь подогретая жидкость, нагревая и трубу, определить направл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ЛЕГКАЯ ПОХОДКА В ГОРУ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съемке кинофильма «Красная поляна» режиссер Эмиль Лотяну требовал от актрисы Светланы Тома, одетой в тяжелые сапоги с отворотами, легкой «летящей» походки при подъеме в гору. Требуемая «легкость» у актрисы не получалась. Как бы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Arial"/>
              </a:rPr>
              <a:t>Предлагаемое решение к задаче «Легкая походка в гору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е-то время актриса походила в тех же сапогах, но с прикрепленными к ним тяжелыми чугунными чушками, после чего походка сама собой получилась «летящей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571680" y="7142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«Если ученик в школе не научился сам ничего творить, то и в жизни он всегда будет только подражать, копировать, так как мало таких, которые бы, научившись копировать, умели сделать самостоятельное приложение этих сведений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.Н.Толс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«Мастер - класс - это, что рождается в ночь перед мастер -  классом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победитель конкурс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Учитель года – 2009» Кружалов В.В.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«Знание только тогда знание, когда приобретено усилиями своей мысли, а не памятью.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.Н.Толсто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The Expert (Русский дубляж) (1) 00_00_34-00_00_51.mp4" descr=""/>
          <p:cNvPicPr/>
          <p:nvPr/>
        </p:nvPicPr>
        <p:blipFill>
          <a:blip r:embed="rId1"/>
          <a:stretch/>
        </p:blipFill>
        <p:spPr>
          <a:xfrm>
            <a:off x="684360" y="243000"/>
            <a:ext cx="8315280" cy="6237000"/>
          </a:xfrm>
          <a:prstGeom prst="rect">
            <a:avLst/>
          </a:prstGeom>
          <a:ln w="0">
            <a:noFill/>
          </a:ln>
        </p:spPr>
      </p:pic>
      <p:pic>
        <p:nvPicPr>
          <p:cNvPr id="49" name="The Expert (Русский дубляж) (1) 00_00_34-00_00_51.mp4" descr=""/>
          <p:cNvPicPr/>
          <p:nvPr/>
        </p:nvPicPr>
        <p:blipFill>
          <a:blip r:embed="rId2"/>
          <a:stretch/>
        </p:blipFill>
        <p:spPr>
          <a:xfrm>
            <a:off x="-1523880" y="0"/>
            <a:ext cx="12191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024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cc"/>
                </a:solidFill>
                <a:latin typeface="Arial"/>
              </a:rPr>
              <a:t>Задача о красных линиях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исовать на плоскости семь красных линий, строго перпендикулярных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Line 4"/>
          <p:cNvSpPr/>
          <p:nvPr/>
        </p:nvSpPr>
        <p:spPr>
          <a:xfrm>
            <a:off x="1116000" y="3213000"/>
            <a:ext cx="6551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5"/>
          <p:cNvSpPr/>
          <p:nvPr/>
        </p:nvSpPr>
        <p:spPr>
          <a:xfrm>
            <a:off x="4140360" y="2602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8"/>
          <p:cNvSpPr/>
          <p:nvPr/>
        </p:nvSpPr>
        <p:spPr>
          <a:xfrm>
            <a:off x="2916360" y="2060640"/>
            <a:ext cx="2447640" cy="21589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1"/>
          <p:cNvSpPr/>
          <p:nvPr/>
        </p:nvSpPr>
        <p:spPr>
          <a:xfrm>
            <a:off x="3564000" y="2060640"/>
            <a:ext cx="115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олилиния 5"/>
          <p:cNvSpPr/>
          <p:nvPr/>
        </p:nvSpPr>
        <p:spPr>
          <a:xfrm>
            <a:off x="3780000" y="1628640"/>
            <a:ext cx="1498320" cy="1995480"/>
          </a:xfrm>
          <a:custGeom>
            <a:avLst/>
            <a:gdLst/>
            <a:ahLst/>
            <a:rect l="l" t="t" r="r" b="b"/>
            <a:pathLst>
              <a:path w="1499406" h="1995055">
                <a:moveTo>
                  <a:pt x="0" y="0"/>
                </a:moveTo>
                <a:cubicBezTo>
                  <a:pt x="87702" y="29235"/>
                  <a:pt x="10311" y="6638"/>
                  <a:pt x="190005" y="23751"/>
                </a:cubicBezTo>
                <a:cubicBezTo>
                  <a:pt x="221775" y="26777"/>
                  <a:pt x="253340" y="31668"/>
                  <a:pt x="285008" y="35626"/>
                </a:cubicBezTo>
                <a:cubicBezTo>
                  <a:pt x="518027" y="93884"/>
                  <a:pt x="184487" y="13114"/>
                  <a:pt x="866899" y="95003"/>
                </a:cubicBezTo>
                <a:cubicBezTo>
                  <a:pt x="888064" y="97543"/>
                  <a:pt x="906316" y="111269"/>
                  <a:pt x="926276" y="118754"/>
                </a:cubicBezTo>
                <a:cubicBezTo>
                  <a:pt x="937997" y="123149"/>
                  <a:pt x="949599" y="128322"/>
                  <a:pt x="961902" y="130629"/>
                </a:cubicBezTo>
                <a:cubicBezTo>
                  <a:pt x="1013075" y="140224"/>
                  <a:pt x="1064821" y="146463"/>
                  <a:pt x="1116281" y="154380"/>
                </a:cubicBezTo>
                <a:cubicBezTo>
                  <a:pt x="1136073" y="142505"/>
                  <a:pt x="1156084" y="130987"/>
                  <a:pt x="1175657" y="118754"/>
                </a:cubicBezTo>
                <a:cubicBezTo>
                  <a:pt x="1187760" y="111190"/>
                  <a:pt x="1197022" y="95573"/>
                  <a:pt x="1211283" y="95003"/>
                </a:cubicBezTo>
                <a:lnTo>
                  <a:pt x="1472541" y="106878"/>
                </a:lnTo>
                <a:cubicBezTo>
                  <a:pt x="1480458" y="118753"/>
                  <a:pt x="1495274" y="128268"/>
                  <a:pt x="1496291" y="142504"/>
                </a:cubicBezTo>
                <a:cubicBezTo>
                  <a:pt x="1499406" y="186115"/>
                  <a:pt x="1493577" y="230381"/>
                  <a:pt x="1484416" y="273133"/>
                </a:cubicBezTo>
                <a:cubicBezTo>
                  <a:pt x="1476697" y="309154"/>
                  <a:pt x="1448591" y="312322"/>
                  <a:pt x="1425039" y="332510"/>
                </a:cubicBezTo>
                <a:cubicBezTo>
                  <a:pt x="1408038" y="347083"/>
                  <a:pt x="1393372" y="364177"/>
                  <a:pt x="1377538" y="380011"/>
                </a:cubicBezTo>
                <a:cubicBezTo>
                  <a:pt x="1347690" y="469558"/>
                  <a:pt x="1387953" y="359180"/>
                  <a:pt x="1341912" y="451263"/>
                </a:cubicBezTo>
                <a:cubicBezTo>
                  <a:pt x="1327569" y="479948"/>
                  <a:pt x="1334648" y="499825"/>
                  <a:pt x="1306286" y="522515"/>
                </a:cubicBezTo>
                <a:cubicBezTo>
                  <a:pt x="1296511" y="530335"/>
                  <a:pt x="1282535" y="530432"/>
                  <a:pt x="1270660" y="534390"/>
                </a:cubicBezTo>
                <a:cubicBezTo>
                  <a:pt x="1262743" y="550224"/>
                  <a:pt x="1255692" y="566521"/>
                  <a:pt x="1246909" y="581891"/>
                </a:cubicBezTo>
                <a:cubicBezTo>
                  <a:pt x="1239828" y="594283"/>
                  <a:pt x="1229542" y="604752"/>
                  <a:pt x="1223159" y="617517"/>
                </a:cubicBezTo>
                <a:cubicBezTo>
                  <a:pt x="1217561" y="628713"/>
                  <a:pt x="1219103" y="643368"/>
                  <a:pt x="1211283" y="653143"/>
                </a:cubicBezTo>
                <a:cubicBezTo>
                  <a:pt x="1202367" y="664288"/>
                  <a:pt x="1187532" y="668977"/>
                  <a:pt x="1175657" y="676894"/>
                </a:cubicBezTo>
                <a:cubicBezTo>
                  <a:pt x="1147421" y="761604"/>
                  <a:pt x="1187459" y="659191"/>
                  <a:pt x="1128156" y="748146"/>
                </a:cubicBezTo>
                <a:cubicBezTo>
                  <a:pt x="1121212" y="758561"/>
                  <a:pt x="1121879" y="772576"/>
                  <a:pt x="1116281" y="783772"/>
                </a:cubicBezTo>
                <a:cubicBezTo>
                  <a:pt x="1096489" y="823356"/>
                  <a:pt x="1092529" y="819399"/>
                  <a:pt x="1056904" y="843149"/>
                </a:cubicBezTo>
                <a:cubicBezTo>
                  <a:pt x="1052946" y="855024"/>
                  <a:pt x="1052849" y="869000"/>
                  <a:pt x="1045029" y="878775"/>
                </a:cubicBezTo>
                <a:cubicBezTo>
                  <a:pt x="1036113" y="889920"/>
                  <a:pt x="1019495" y="892433"/>
                  <a:pt x="1009403" y="902525"/>
                </a:cubicBezTo>
                <a:cubicBezTo>
                  <a:pt x="999311" y="912617"/>
                  <a:pt x="993569" y="926276"/>
                  <a:pt x="985652" y="938151"/>
                </a:cubicBezTo>
                <a:cubicBezTo>
                  <a:pt x="956741" y="1024887"/>
                  <a:pt x="967974" y="985115"/>
                  <a:pt x="950026" y="1056904"/>
                </a:cubicBezTo>
                <a:cubicBezTo>
                  <a:pt x="953985" y="1147948"/>
                  <a:pt x="956847" y="1239047"/>
                  <a:pt x="961902" y="1330037"/>
                </a:cubicBezTo>
                <a:cubicBezTo>
                  <a:pt x="964765" y="1381569"/>
                  <a:pt x="970860" y="1432887"/>
                  <a:pt x="973777" y="1484416"/>
                </a:cubicBezTo>
                <a:cubicBezTo>
                  <a:pt x="982736" y="1642698"/>
                  <a:pt x="986494" y="1801278"/>
                  <a:pt x="997528" y="1959429"/>
                </a:cubicBezTo>
                <a:cubicBezTo>
                  <a:pt x="998399" y="1971916"/>
                  <a:pt x="1009403" y="1995055"/>
                  <a:pt x="1009403" y="1995055"/>
                </a:cubicBezTo>
              </a:path>
            </a:pathLst>
          </a:custGeom>
          <a:noFill/>
          <a:ln w="3492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олилиния 6"/>
          <p:cNvSpPr/>
          <p:nvPr/>
        </p:nvSpPr>
        <p:spPr>
          <a:xfrm>
            <a:off x="2556000" y="1341360"/>
            <a:ext cx="2017440" cy="2220840"/>
          </a:xfrm>
          <a:custGeom>
            <a:avLst/>
            <a:gdLst/>
            <a:ahLst/>
            <a:rect l="l" t="t" r="r" b="b"/>
            <a:pathLst>
              <a:path w="2017252" h="2220686">
                <a:moveTo>
                  <a:pt x="1935678" y="534390"/>
                </a:moveTo>
                <a:cubicBezTo>
                  <a:pt x="1931720" y="475013"/>
                  <a:pt x="1926568" y="415704"/>
                  <a:pt x="1923803" y="356260"/>
                </a:cubicBezTo>
                <a:cubicBezTo>
                  <a:pt x="1910507" y="70401"/>
                  <a:pt x="2017252" y="52147"/>
                  <a:pt x="1876301" y="11875"/>
                </a:cubicBezTo>
                <a:cubicBezTo>
                  <a:pt x="1860608" y="7391"/>
                  <a:pt x="1844634" y="3958"/>
                  <a:pt x="1828800" y="0"/>
                </a:cubicBezTo>
                <a:cubicBezTo>
                  <a:pt x="1706088" y="3958"/>
                  <a:pt x="1583229" y="4665"/>
                  <a:pt x="1460665" y="11875"/>
                </a:cubicBezTo>
                <a:cubicBezTo>
                  <a:pt x="1448169" y="12610"/>
                  <a:pt x="1437183" y="20715"/>
                  <a:pt x="1425039" y="23751"/>
                </a:cubicBezTo>
                <a:cubicBezTo>
                  <a:pt x="1405457" y="28646"/>
                  <a:pt x="1385832" y="34865"/>
                  <a:pt x="1365662" y="35626"/>
                </a:cubicBezTo>
                <a:cubicBezTo>
                  <a:pt x="1175751" y="42792"/>
                  <a:pt x="985622" y="42296"/>
                  <a:pt x="795647" y="47501"/>
                </a:cubicBezTo>
                <a:cubicBezTo>
                  <a:pt x="696644" y="50213"/>
                  <a:pt x="597725" y="55418"/>
                  <a:pt x="498764" y="59377"/>
                </a:cubicBezTo>
                <a:cubicBezTo>
                  <a:pt x="482930" y="63335"/>
                  <a:pt x="466955" y="66768"/>
                  <a:pt x="451262" y="71252"/>
                </a:cubicBezTo>
                <a:cubicBezTo>
                  <a:pt x="439226" y="74691"/>
                  <a:pt x="427856" y="80411"/>
                  <a:pt x="415636" y="83127"/>
                </a:cubicBezTo>
                <a:cubicBezTo>
                  <a:pt x="392131" y="88350"/>
                  <a:pt x="367890" y="89780"/>
                  <a:pt x="344385" y="95003"/>
                </a:cubicBezTo>
                <a:cubicBezTo>
                  <a:pt x="332165" y="97719"/>
                  <a:pt x="321131" y="104975"/>
                  <a:pt x="308759" y="106878"/>
                </a:cubicBezTo>
                <a:cubicBezTo>
                  <a:pt x="269439" y="112927"/>
                  <a:pt x="229590" y="114795"/>
                  <a:pt x="190005" y="118753"/>
                </a:cubicBezTo>
                <a:cubicBezTo>
                  <a:pt x="166254" y="126670"/>
                  <a:pt x="139584" y="128617"/>
                  <a:pt x="118753" y="142504"/>
                </a:cubicBezTo>
                <a:cubicBezTo>
                  <a:pt x="72712" y="173199"/>
                  <a:pt x="96667" y="161742"/>
                  <a:pt x="47501" y="178130"/>
                </a:cubicBezTo>
                <a:cubicBezTo>
                  <a:pt x="39584" y="190005"/>
                  <a:pt x="29547" y="200714"/>
                  <a:pt x="23751" y="213756"/>
                </a:cubicBezTo>
                <a:cubicBezTo>
                  <a:pt x="13583" y="236634"/>
                  <a:pt x="0" y="285008"/>
                  <a:pt x="0" y="285008"/>
                </a:cubicBezTo>
                <a:cubicBezTo>
                  <a:pt x="3997" y="306991"/>
                  <a:pt x="6396" y="418377"/>
                  <a:pt x="47501" y="451262"/>
                </a:cubicBezTo>
                <a:cubicBezTo>
                  <a:pt x="57276" y="459082"/>
                  <a:pt x="71252" y="459179"/>
                  <a:pt x="83127" y="463138"/>
                </a:cubicBezTo>
                <a:cubicBezTo>
                  <a:pt x="106878" y="486889"/>
                  <a:pt x="143757" y="502525"/>
                  <a:pt x="154379" y="534390"/>
                </a:cubicBezTo>
                <a:cubicBezTo>
                  <a:pt x="170769" y="583556"/>
                  <a:pt x="155839" y="563073"/>
                  <a:pt x="201881" y="593766"/>
                </a:cubicBezTo>
                <a:cubicBezTo>
                  <a:pt x="211540" y="622743"/>
                  <a:pt x="214485" y="641996"/>
                  <a:pt x="237507" y="665018"/>
                </a:cubicBezTo>
                <a:cubicBezTo>
                  <a:pt x="247599" y="675110"/>
                  <a:pt x="261258" y="680852"/>
                  <a:pt x="273133" y="688769"/>
                </a:cubicBezTo>
                <a:cubicBezTo>
                  <a:pt x="277091" y="700644"/>
                  <a:pt x="276157" y="715544"/>
                  <a:pt x="285008" y="724395"/>
                </a:cubicBezTo>
                <a:cubicBezTo>
                  <a:pt x="297526" y="736913"/>
                  <a:pt x="317139" y="739362"/>
                  <a:pt x="332509" y="748145"/>
                </a:cubicBezTo>
                <a:cubicBezTo>
                  <a:pt x="344901" y="755226"/>
                  <a:pt x="356260" y="763979"/>
                  <a:pt x="368135" y="771896"/>
                </a:cubicBezTo>
                <a:cubicBezTo>
                  <a:pt x="417076" y="845307"/>
                  <a:pt x="362737" y="773695"/>
                  <a:pt x="427512" y="831273"/>
                </a:cubicBezTo>
                <a:cubicBezTo>
                  <a:pt x="549523" y="939727"/>
                  <a:pt x="453536" y="872374"/>
                  <a:pt x="534390" y="926275"/>
                </a:cubicBezTo>
                <a:cubicBezTo>
                  <a:pt x="593352" y="1014721"/>
                  <a:pt x="517575" y="906099"/>
                  <a:pt x="593766" y="997527"/>
                </a:cubicBezTo>
                <a:cubicBezTo>
                  <a:pt x="602903" y="1008491"/>
                  <a:pt x="607425" y="1023061"/>
                  <a:pt x="617517" y="1033153"/>
                </a:cubicBezTo>
                <a:cubicBezTo>
                  <a:pt x="640539" y="1056175"/>
                  <a:pt x="659792" y="1059120"/>
                  <a:pt x="688769" y="1068779"/>
                </a:cubicBezTo>
                <a:cubicBezTo>
                  <a:pt x="696686" y="1080654"/>
                  <a:pt x="701375" y="1095489"/>
                  <a:pt x="712520" y="1104405"/>
                </a:cubicBezTo>
                <a:cubicBezTo>
                  <a:pt x="722295" y="1112225"/>
                  <a:pt x="736950" y="1110683"/>
                  <a:pt x="748146" y="1116281"/>
                </a:cubicBezTo>
                <a:cubicBezTo>
                  <a:pt x="760911" y="1122664"/>
                  <a:pt x="771007" y="1133648"/>
                  <a:pt x="783772" y="1140031"/>
                </a:cubicBezTo>
                <a:cubicBezTo>
                  <a:pt x="794968" y="1145629"/>
                  <a:pt x="808456" y="1145828"/>
                  <a:pt x="819398" y="1151907"/>
                </a:cubicBezTo>
                <a:cubicBezTo>
                  <a:pt x="844350" y="1165770"/>
                  <a:pt x="890649" y="1199408"/>
                  <a:pt x="890649" y="1199408"/>
                </a:cubicBezTo>
                <a:cubicBezTo>
                  <a:pt x="898566" y="1211283"/>
                  <a:pt x="905263" y="1224070"/>
                  <a:pt x="914400" y="1235034"/>
                </a:cubicBezTo>
                <a:cubicBezTo>
                  <a:pt x="925151" y="1247936"/>
                  <a:pt x="941870" y="1255979"/>
                  <a:pt x="950026" y="1270660"/>
                </a:cubicBezTo>
                <a:cubicBezTo>
                  <a:pt x="962184" y="1292545"/>
                  <a:pt x="973777" y="1341912"/>
                  <a:pt x="973777" y="1341912"/>
                </a:cubicBezTo>
                <a:cubicBezTo>
                  <a:pt x="977735" y="1456707"/>
                  <a:pt x="981061" y="1571525"/>
                  <a:pt x="985652" y="1686296"/>
                </a:cubicBezTo>
                <a:cubicBezTo>
                  <a:pt x="988978" y="1769451"/>
                  <a:pt x="987205" y="1853099"/>
                  <a:pt x="997527" y="1935678"/>
                </a:cubicBezTo>
                <a:cubicBezTo>
                  <a:pt x="999297" y="1949840"/>
                  <a:pt x="1020093" y="1957081"/>
                  <a:pt x="1021278" y="1971304"/>
                </a:cubicBezTo>
                <a:cubicBezTo>
                  <a:pt x="1028181" y="2054144"/>
                  <a:pt x="1021278" y="2137559"/>
                  <a:pt x="1021278" y="2220686"/>
                </a:cubicBezTo>
              </a:path>
            </a:pathLst>
          </a:custGeom>
          <a:noFill/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олилиния 7"/>
          <p:cNvSpPr/>
          <p:nvPr/>
        </p:nvSpPr>
        <p:spPr>
          <a:xfrm>
            <a:off x="3348000" y="1052640"/>
            <a:ext cx="1200240" cy="2671560"/>
          </a:xfrm>
          <a:custGeom>
            <a:avLst/>
            <a:gdLst/>
            <a:ahLst/>
            <a:rect l="l" t="t" r="r" b="b"/>
            <a:pathLst>
              <a:path w="1182337" h="2565070">
                <a:moveTo>
                  <a:pt x="605642" y="0"/>
                </a:moveTo>
                <a:cubicBezTo>
                  <a:pt x="613559" y="15834"/>
                  <a:pt x="619103" y="33096"/>
                  <a:pt x="629392" y="47501"/>
                </a:cubicBezTo>
                <a:cubicBezTo>
                  <a:pt x="709635" y="159842"/>
                  <a:pt x="623672" y="436"/>
                  <a:pt x="688769" y="130628"/>
                </a:cubicBezTo>
                <a:cubicBezTo>
                  <a:pt x="668714" y="250961"/>
                  <a:pt x="665018" y="256687"/>
                  <a:pt x="665018" y="427511"/>
                </a:cubicBezTo>
                <a:cubicBezTo>
                  <a:pt x="665018" y="511634"/>
                  <a:pt x="677200" y="584034"/>
                  <a:pt x="688769" y="665018"/>
                </a:cubicBezTo>
                <a:cubicBezTo>
                  <a:pt x="684811" y="732311"/>
                  <a:pt x="700198" y="803645"/>
                  <a:pt x="676894" y="866898"/>
                </a:cubicBezTo>
                <a:cubicBezTo>
                  <a:pt x="668239" y="890390"/>
                  <a:pt x="630524" y="887884"/>
                  <a:pt x="605642" y="890649"/>
                </a:cubicBezTo>
                <a:lnTo>
                  <a:pt x="498764" y="902524"/>
                </a:lnTo>
                <a:cubicBezTo>
                  <a:pt x="341330" y="955003"/>
                  <a:pt x="464638" y="921099"/>
                  <a:pt x="166255" y="938150"/>
                </a:cubicBezTo>
                <a:cubicBezTo>
                  <a:pt x="114727" y="941094"/>
                  <a:pt x="63336" y="946067"/>
                  <a:pt x="11876" y="950026"/>
                </a:cubicBezTo>
                <a:cubicBezTo>
                  <a:pt x="7917" y="961901"/>
                  <a:pt x="0" y="973134"/>
                  <a:pt x="0" y="985652"/>
                </a:cubicBezTo>
                <a:cubicBezTo>
                  <a:pt x="0" y="1025877"/>
                  <a:pt x="35702" y="1080730"/>
                  <a:pt x="59377" y="1104405"/>
                </a:cubicBezTo>
                <a:cubicBezTo>
                  <a:pt x="71252" y="1116280"/>
                  <a:pt x="84692" y="1126774"/>
                  <a:pt x="95003" y="1140031"/>
                </a:cubicBezTo>
                <a:cubicBezTo>
                  <a:pt x="112528" y="1162563"/>
                  <a:pt x="126670" y="1187532"/>
                  <a:pt x="142504" y="1211283"/>
                </a:cubicBezTo>
                <a:cubicBezTo>
                  <a:pt x="150421" y="1223158"/>
                  <a:pt x="156163" y="1236817"/>
                  <a:pt x="166255" y="1246909"/>
                </a:cubicBezTo>
                <a:cubicBezTo>
                  <a:pt x="270337" y="1350991"/>
                  <a:pt x="138307" y="1223620"/>
                  <a:pt x="237507" y="1306285"/>
                </a:cubicBezTo>
                <a:cubicBezTo>
                  <a:pt x="250409" y="1317036"/>
                  <a:pt x="262822" y="1328654"/>
                  <a:pt x="273133" y="1341911"/>
                </a:cubicBezTo>
                <a:cubicBezTo>
                  <a:pt x="290658" y="1364443"/>
                  <a:pt x="320634" y="1413163"/>
                  <a:pt x="320634" y="1413163"/>
                </a:cubicBezTo>
                <a:cubicBezTo>
                  <a:pt x="355361" y="1517343"/>
                  <a:pt x="322023" y="1489570"/>
                  <a:pt x="463138" y="1496290"/>
                </a:cubicBezTo>
                <a:lnTo>
                  <a:pt x="1092530" y="1520041"/>
                </a:lnTo>
                <a:cubicBezTo>
                  <a:pt x="1096488" y="1531916"/>
                  <a:pt x="1101950" y="1543392"/>
                  <a:pt x="1104405" y="1555667"/>
                </a:cubicBezTo>
                <a:cubicBezTo>
                  <a:pt x="1109894" y="1583114"/>
                  <a:pt x="1108238" y="1611984"/>
                  <a:pt x="1116281" y="1638794"/>
                </a:cubicBezTo>
                <a:cubicBezTo>
                  <a:pt x="1120382" y="1652464"/>
                  <a:pt x="1132114" y="1662545"/>
                  <a:pt x="1140031" y="1674420"/>
                </a:cubicBezTo>
                <a:cubicBezTo>
                  <a:pt x="1182337" y="1885941"/>
                  <a:pt x="1163736" y="1770298"/>
                  <a:pt x="1140031" y="2220685"/>
                </a:cubicBezTo>
                <a:cubicBezTo>
                  <a:pt x="1136676" y="2284425"/>
                  <a:pt x="1131762" y="2348768"/>
                  <a:pt x="1116281" y="2410690"/>
                </a:cubicBezTo>
                <a:cubicBezTo>
                  <a:pt x="1087730" y="2524894"/>
                  <a:pt x="1092530" y="2473051"/>
                  <a:pt x="1092530" y="2565070"/>
                </a:cubicBezTo>
              </a:path>
            </a:pathLst>
          </a:custGeom>
          <a:noFill/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олилиния 8"/>
          <p:cNvSpPr/>
          <p:nvPr/>
        </p:nvSpPr>
        <p:spPr>
          <a:xfrm>
            <a:off x="2627280" y="2997360"/>
            <a:ext cx="2406600" cy="1460520"/>
          </a:xfrm>
          <a:custGeom>
            <a:avLst/>
            <a:gdLst/>
            <a:ahLst/>
            <a:rect l="l" t="t" r="r" b="b"/>
            <a:pathLst>
              <a:path w="2407394" h="1460665">
                <a:moveTo>
                  <a:pt x="0" y="1460665"/>
                </a:moveTo>
                <a:cubicBezTo>
                  <a:pt x="11875" y="1456707"/>
                  <a:pt x="25851" y="1456610"/>
                  <a:pt x="35626" y="1448790"/>
                </a:cubicBezTo>
                <a:cubicBezTo>
                  <a:pt x="46771" y="1439874"/>
                  <a:pt x="49285" y="1423256"/>
                  <a:pt x="59377" y="1413164"/>
                </a:cubicBezTo>
                <a:cubicBezTo>
                  <a:pt x="69469" y="1403072"/>
                  <a:pt x="83128" y="1397330"/>
                  <a:pt x="95003" y="1389413"/>
                </a:cubicBezTo>
                <a:cubicBezTo>
                  <a:pt x="98961" y="1377538"/>
                  <a:pt x="100799" y="1364730"/>
                  <a:pt x="106878" y="1353788"/>
                </a:cubicBezTo>
                <a:cubicBezTo>
                  <a:pt x="120741" y="1328835"/>
                  <a:pt x="154380" y="1282536"/>
                  <a:pt x="154380" y="1282536"/>
                </a:cubicBezTo>
                <a:cubicBezTo>
                  <a:pt x="158338" y="1270661"/>
                  <a:pt x="167808" y="1259331"/>
                  <a:pt x="166255" y="1246910"/>
                </a:cubicBezTo>
                <a:cubicBezTo>
                  <a:pt x="158992" y="1188807"/>
                  <a:pt x="145653" y="1189632"/>
                  <a:pt x="106878" y="1163782"/>
                </a:cubicBezTo>
                <a:cubicBezTo>
                  <a:pt x="110837" y="1143990"/>
                  <a:pt x="111667" y="1123305"/>
                  <a:pt x="118754" y="1104406"/>
                </a:cubicBezTo>
                <a:cubicBezTo>
                  <a:pt x="128861" y="1077455"/>
                  <a:pt x="152189" y="1056146"/>
                  <a:pt x="178130" y="1045029"/>
                </a:cubicBezTo>
                <a:cubicBezTo>
                  <a:pt x="193132" y="1038600"/>
                  <a:pt x="209798" y="1037112"/>
                  <a:pt x="225632" y="1033154"/>
                </a:cubicBezTo>
                <a:cubicBezTo>
                  <a:pt x="282088" y="995516"/>
                  <a:pt x="247718" y="1013916"/>
                  <a:pt x="332510" y="985652"/>
                </a:cubicBezTo>
                <a:lnTo>
                  <a:pt x="368135" y="973777"/>
                </a:lnTo>
                <a:lnTo>
                  <a:pt x="403761" y="961902"/>
                </a:lnTo>
                <a:cubicBezTo>
                  <a:pt x="407720" y="950027"/>
                  <a:pt x="407817" y="936051"/>
                  <a:pt x="415637" y="926276"/>
                </a:cubicBezTo>
                <a:cubicBezTo>
                  <a:pt x="437064" y="899492"/>
                  <a:pt x="469182" y="899102"/>
                  <a:pt x="498764" y="890650"/>
                </a:cubicBezTo>
                <a:cubicBezTo>
                  <a:pt x="510800" y="887211"/>
                  <a:pt x="522515" y="882733"/>
                  <a:pt x="534390" y="878775"/>
                </a:cubicBezTo>
                <a:cubicBezTo>
                  <a:pt x="570167" y="854923"/>
                  <a:pt x="575332" y="849352"/>
                  <a:pt x="617517" y="831273"/>
                </a:cubicBezTo>
                <a:cubicBezTo>
                  <a:pt x="629023" y="826342"/>
                  <a:pt x="641268" y="823356"/>
                  <a:pt x="653143" y="819398"/>
                </a:cubicBezTo>
                <a:cubicBezTo>
                  <a:pt x="665018" y="811481"/>
                  <a:pt x="678677" y="805739"/>
                  <a:pt x="688769" y="795647"/>
                </a:cubicBezTo>
                <a:cubicBezTo>
                  <a:pt x="722166" y="762250"/>
                  <a:pt x="716433" y="736540"/>
                  <a:pt x="724395" y="688769"/>
                </a:cubicBezTo>
                <a:cubicBezTo>
                  <a:pt x="720437" y="661060"/>
                  <a:pt x="718009" y="633089"/>
                  <a:pt x="712520" y="605642"/>
                </a:cubicBezTo>
                <a:cubicBezTo>
                  <a:pt x="710065" y="593367"/>
                  <a:pt x="700645" y="582534"/>
                  <a:pt x="700645" y="570016"/>
                </a:cubicBezTo>
                <a:cubicBezTo>
                  <a:pt x="700645" y="530234"/>
                  <a:pt x="708562" y="490847"/>
                  <a:pt x="712520" y="451263"/>
                </a:cubicBezTo>
                <a:lnTo>
                  <a:pt x="1151907" y="463138"/>
                </a:lnTo>
                <a:cubicBezTo>
                  <a:pt x="1175959" y="464257"/>
                  <a:pt x="1199361" y="471352"/>
                  <a:pt x="1223159" y="475013"/>
                </a:cubicBezTo>
                <a:cubicBezTo>
                  <a:pt x="1250824" y="479269"/>
                  <a:pt x="1278367" y="484895"/>
                  <a:pt x="1306286" y="486889"/>
                </a:cubicBezTo>
                <a:cubicBezTo>
                  <a:pt x="1389296" y="492818"/>
                  <a:pt x="1472550" y="494608"/>
                  <a:pt x="1555668" y="498764"/>
                </a:cubicBezTo>
                <a:cubicBezTo>
                  <a:pt x="1802268" y="511094"/>
                  <a:pt x="1731637" y="507092"/>
                  <a:pt x="1947554" y="522515"/>
                </a:cubicBezTo>
                <a:cubicBezTo>
                  <a:pt x="2149862" y="560448"/>
                  <a:pt x="2076427" y="537764"/>
                  <a:pt x="2173185" y="570016"/>
                </a:cubicBezTo>
                <a:cubicBezTo>
                  <a:pt x="2240478" y="566058"/>
                  <a:pt x="2309261" y="572764"/>
                  <a:pt x="2375065" y="558141"/>
                </a:cubicBezTo>
                <a:cubicBezTo>
                  <a:pt x="2387285" y="555426"/>
                  <a:pt x="2386941" y="535033"/>
                  <a:pt x="2386941" y="522515"/>
                </a:cubicBezTo>
                <a:cubicBezTo>
                  <a:pt x="2386941" y="212755"/>
                  <a:pt x="2407394" y="409041"/>
                  <a:pt x="2351315" y="296884"/>
                </a:cubicBezTo>
                <a:cubicBezTo>
                  <a:pt x="2345717" y="285688"/>
                  <a:pt x="2339939" y="273766"/>
                  <a:pt x="2339439" y="261258"/>
                </a:cubicBezTo>
                <a:cubicBezTo>
                  <a:pt x="2335958" y="174242"/>
                  <a:pt x="2339439" y="87086"/>
                  <a:pt x="2339439" y="0"/>
                </a:cubicBezTo>
              </a:path>
            </a:pathLst>
          </a:custGeom>
          <a:noFill/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58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Многопрофильная инженерная олимпиада «Звезда» 2019-2020 уч. год</a:t>
            </a:r>
            <a:br>
              <a:rPr sz="2800"/>
            </a:b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11 класс заключительный тур вариант №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(13 баллов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уравей сидит в вершине прямоугольного параллелепипеда с длинами ребер 3,4, и 7см. Сможет ли он двигаясь по поверхности параллелепипеда со скоростью 1 см/с, добраться до противоположной вершины менее , чем за 10 секунд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rcRect l="0" t="1722" r="0" b="87207"/>
          <a:stretch/>
        </p:blipFill>
        <p:spPr>
          <a:xfrm>
            <a:off x="179280" y="260280"/>
            <a:ext cx="8569440" cy="698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2"/>
          <a:srcRect l="0" t="33713" r="0" b="9843"/>
          <a:stretch/>
        </p:blipFill>
        <p:spPr>
          <a:xfrm>
            <a:off x="324000" y="1125360"/>
            <a:ext cx="842472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4"/>
          <p:cNvGrpSpPr/>
          <p:nvPr/>
        </p:nvGrpSpPr>
        <p:grpSpPr>
          <a:xfrm>
            <a:off x="539640" y="981000"/>
            <a:ext cx="8232840" cy="5144760"/>
            <a:chOff x="539640" y="981000"/>
            <a:chExt cx="8232840" cy="5144760"/>
          </a:xfrm>
        </p:grpSpPr>
        <p:sp>
          <p:nvSpPr>
            <p:cNvPr id="65" name="Rectangle 5"/>
            <p:cNvSpPr/>
            <p:nvPr/>
          </p:nvSpPr>
          <p:spPr>
            <a:xfrm>
              <a:off x="539640" y="2696040"/>
              <a:ext cx="2058120" cy="1713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6"/>
            <p:cNvSpPr/>
            <p:nvPr/>
          </p:nvSpPr>
          <p:spPr>
            <a:xfrm>
              <a:off x="2597760" y="2696040"/>
              <a:ext cx="2058120" cy="1713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7"/>
            <p:cNvSpPr/>
            <p:nvPr/>
          </p:nvSpPr>
          <p:spPr>
            <a:xfrm>
              <a:off x="4655880" y="2696040"/>
              <a:ext cx="2058120" cy="1713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8"/>
            <p:cNvSpPr/>
            <p:nvPr/>
          </p:nvSpPr>
          <p:spPr>
            <a:xfrm>
              <a:off x="6714360" y="2696040"/>
              <a:ext cx="2058120" cy="1713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9"/>
            <p:cNvSpPr/>
            <p:nvPr/>
          </p:nvSpPr>
          <p:spPr>
            <a:xfrm>
              <a:off x="539640" y="981000"/>
              <a:ext cx="2056680" cy="17150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10"/>
            <p:cNvSpPr/>
            <p:nvPr/>
          </p:nvSpPr>
          <p:spPr>
            <a:xfrm>
              <a:off x="539640" y="4411080"/>
              <a:ext cx="2058120" cy="17146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Прямая соединительная линия 9"/>
          <p:cNvSpPr/>
          <p:nvPr/>
        </p:nvSpPr>
        <p:spPr>
          <a:xfrm>
            <a:off x="539640" y="907920"/>
            <a:ext cx="2016360" cy="3457800"/>
          </a:xfrm>
          <a:prstGeom prst="line">
            <a:avLst/>
          </a:prstGeom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01T15:08:44Z</dcterms:created>
  <dc:creator>Рамиль</dc:creator>
  <dc:description/>
  <dc:language>en-US</dc:language>
  <cp:lastModifiedBy>user</cp:lastModifiedBy>
  <dcterms:modified xsi:type="dcterms:W3CDTF">2021-02-19T06:51:01Z</dcterms:modified>
  <cp:revision>19</cp:revision>
  <dc:subject/>
  <dc:title>Слайд 1</dc:title>
</cp:coreProperties>
</file>